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3E1-E555-4919-979C-A50F2B3E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6C7-0461-443D-BD4E-2A355041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529-5C46-4B41-9544-4D6AFC06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71A6-7954-40C3-997A-A42B457E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2E6B-FD8D-40E7-8845-D2523C45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58A8-60A4-4DE1-8D0A-1E0AE6D7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197F-C50F-48D8-B80E-24E87B94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60F8-8B4B-46DA-95E1-1506F2FC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BD59-1686-4FC2-9A80-A6DC2B45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4835-6CD2-4D7E-9EF7-4A563DE4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7DC0-D8E7-47B8-A1F1-A2968C72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7B4-614C-48F5-BBA5-EE6F4398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4A6D-37BE-4393-AC92-B856C98D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B4F5-8A76-46B8-9CA2-D69D59E1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DF15-B54C-4D2C-BCBA-72D8B12F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64B7-469F-447B-B734-05C8E77F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0C16-F1FF-4C3B-83BF-70E45775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7CB-DB99-4FFE-A8EA-828C492D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959-70D5-4961-A982-E95D9ACF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FFA-406B-456B-9FDD-F2CE5BA3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BE1-46B0-4100-B537-87ED6641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125-930E-42D1-B826-F14E5C3F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9E3-9389-45F0-BFC0-9CDCDDF0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177-2C44-42F6-9165-99F7CE24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31F8-3FEF-4E39-BA3C-ECD5A99B7DF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F61F-6BE3-4466-AA42-3C259566E2E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华文中宋"/>
              </a:rPr>
              <a:t>浅谈特教学校教师的论文写作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浙江杭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012.4.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学科素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相关学科以及学科教学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教学实践能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对残疾儿童个体学习能力的评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对课程与教材的理解与处理能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备课及教学设计能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具与课件制作能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实施能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课堂沟通能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课堂应对能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效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学生学习效果的评价能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反思及调控能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别化教学能力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教育教学研究能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研究问题的意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发现问题、分析问题、解决问题的策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资料的获取与运用能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调查研究的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教育统计与分析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课题的申报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语言与写作素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论文的布局谋篇能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论证与论述的能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语言的表达能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华文中宋"/>
              </a:rPr>
              <a:t>特教论文写作的基本现状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论文写作逐步成为教师的自觉行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从教学实践中发现新问题并提出解决问题的方案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如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《实现聋校数学课堂教学有效性过程中的问题及对策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一、实现数学课堂教学有效性过程中的问题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．课程目标的分裂：机械的教学过程与方法；生搬硬套的情感态度与价值观；对知识传授和技能训练的藐视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．教学内容的僵化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．重形式不重实质的教学活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．低层次的教学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二、提高聋校数学课堂教学有效性的对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．保证课堂交往的有效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．提高课堂提问的有效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．实施个别化教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．有效运用多媒体辅助教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能试用相关的理论分析问题，使论文有了一定的说服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重建聋校语文阅读教学体系刍议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《期待产生奇迹——浅谈罗森塔尔效应在盲校班主任工作中的运用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基本掌握了论文写作的规范要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  <a:ea typeface="华文中宋"/>
              </a:rPr>
              <a:t>特校教师为什么要写论文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什么 是特殊教育”论文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论文”是讨论和研究问题的文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论文的质量总体上不高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一，缺少国际性视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二，缺少实践中重大问题的发现和研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三，缺少扎实的理论功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四，缺少深层次的探索研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五，论文的规范化做得不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华文中宋"/>
              </a:rPr>
              <a:t>特校教师如何写好教学论文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顶天立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立点要高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视野要广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基础要实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嗅觉敏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选题要新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问题要准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下手要狠（实事求是，不要回避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选择要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选题要新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是研究尚无人问津的或被人忽略的选题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《如何运用外语教学理论方法指导聋生的语言学习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聋人手语在聋校教学中的合理运用问题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是在别人发掘过的地方深耕细作，或是接过别人的接力棒继续跑下去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《用陶行知生活教育理论，指导数学教学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陈鹤琴的“活教育”理论在特教中的运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问题要准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就是说要找到问题的关键。如影响聋校课堂教学的效率的关键问题是什么？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下手要狠（实事求是，不要回避）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就是说科学研究是敢讲真话，实事求是，解放思想，不唯上、不唯书、只唯实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选择要巧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就是说视角要小巧。比如，研究从课堂提问、作业设计、课后阅读等来选择课题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积累丰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广泛阅读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集中搜集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精心筛选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脑风暴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运气：深思熟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发力：挖掘要深，分析要透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是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,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内容上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----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讨论和研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二是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,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形式上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----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特殊教育论文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讨论和研究特殊教育范畴里的问题的文章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精心布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结构科学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心稳固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层次分明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标题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是要准确反映文章主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是要精练，一般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字（或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字）以内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是要有艺术性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《牵手语文，走进生活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《在动手、动口、动脑的过程中学习数学知识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《感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理解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创作——徐州汉画像石在聋校美术教育中的运用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《缘定三“生” 圆融互摄——谈聋校生态数学课堂的构建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摘与关键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摘是对该文的研究目的、观点和结论的提示和概要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关键词是便于文章检索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正文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开头——主体——结尾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开头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般是交待背景、抛出话题、说明目的等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开头要简洁明了，能吸引读者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华文中宋"/>
              </a:rPr>
              <a:t>《聋校数学概念教学中的问题与难点分析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聋校数学教学中往往遇见这样的事情，若提问学生概念时，聋生能按书本上的内容进行复述，但一到解题，就无从下手。这是聋生概念学习中常遇见的一种现象——“假性理解”。数学概念学习中的假性理解介于正确理解和错误理解之间，对概念只是简单的记忆和表面的理解，虽能复述，但却没有抓住概念的本质特征，未能深刻领悟，更没有形成应用能力。造成“假性理解”的原因，正是目前要领教学中的问题与难点所在。对此进行细致的分析与反思，能给聋校教学概念教学提供有益的参考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主体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文章的主要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摆出论据，充分论证，透彻分析，得出结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一、概念教学中“重结论，轻过程”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二、缺乏对数学符号的理解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三、忽略概念教学中的数形结合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四、不够重视数学语言教学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论证方法有多种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横向（并列）论证：此文是从四个方面分别进行论证。这种方法比较严密周详，也是开放形的。还可从五个方面或六个方面进行论证。这叫并列式论证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纵向论证： “剥笋式”的论证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为什么特校教师要写论文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这是国家的要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结尾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结尾是对全文的归纳和总结，或者提出研究中的不足之处，提出下一步需要继续探索的问题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参考文献。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参考文献是学术论文不可缺少的最后一个部分。一是方便读者的查阅引用的资料。二是体现作者的严谨态度和版权意识。三是体现文章研究资料的丰富性和可靠性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能言善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说理有穿透力（论述具有不可辩驳力），说话精练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风朴实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逻辑性强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要精练，避免罗嗦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如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有残疾孩子的家庭，家长所面对和承受的心理压力，是常人难以想象的。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为：“残疾孩子家长承受的心理压力是常人难以想象的。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再如：”我们在数学教学中要扬其长、避其短，以其强促其短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应为：“数学教学要扬长避短，以强促短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二要得体，比喻不要过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如：“语文老师成了‘杂货店’的老板，聋生则成了被呼来唤去的‘店小二’”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三要严密，避免疏漏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如：“由于大力开展了随班就读，致使培智学校的学生智商程度越来越低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应为：“由于开展了随班就读，培智学校只能招收到学智商越来越低的学生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还如：“让他们在不断成功的体验中对文字产生兴趣，对自我产生信心，从而忽视自己的缺陷，在文字的引领下发展思维、成长心智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应为：“让他们在不断成功的体验中对文字产生兴趣，对自我产生信心，从而正视自己的缺陷，在文字的引领下发展思维，成长心智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四要合理使用标点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点符号滥用最多的是分号和顿号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              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谢 谢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沈玉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943787423@qq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《中华人民共和国教师法》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第二章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权利与义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进行教育教学活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开展教育教学改革和实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从事科学研究、学术交流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参加专业的学术团体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学术 活动中充分发表意见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六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断提高思想政治觉悟和教学教学业务水平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特教改革发展的要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是特教学校教师师资专业成长和教育管理的要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美国特殊儿童委员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: 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高级特殊教育教师的培养是极其严格的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特殊教育专家不再是简单的掌握固有知识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而是要解决实际问题和发展特殊教育理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是一个创造者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是教师个人能力的一个重要方面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美国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NTASC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“成为一名反省的实践者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持续评估自己的选择和行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学生、家长和其他专业人员产生影响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主动寻求专业成长机会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  <a:ea typeface="华文中宋"/>
              </a:rPr>
              <a:t>特校教师写好论文的基本素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专业理论的素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教育哲学与特殊教育哲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心理学与特殊儿童心理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教育学与特殊儿童教育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普通语言学与特殊儿童语言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中国教育史与特殊教育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医学与残疾儿童病理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康复学特殊儿童康复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2T00:44:0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